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5145088"/>
  <p:notesSz cx="10083800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10083600" cy="69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7"/>
          </p:nvPr>
        </p:nvSpPr>
        <p:spPr>
          <a:xfrm>
            <a:off x="5711760" y="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2724120" y="520560"/>
            <a:ext cx="4633920" cy="260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1008000" y="3301920"/>
            <a:ext cx="8066160" cy="3129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8"/>
          </p:nvPr>
        </p:nvSpPr>
        <p:spPr>
          <a:xfrm>
            <a:off x="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9"/>
          </p:nvPr>
        </p:nvSpPr>
        <p:spPr>
          <a:xfrm>
            <a:off x="571176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9FC1-5A34-4C35-857E-EC65C53900E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724120" y="520560"/>
            <a:ext cx="4633920" cy="2608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008000" y="3301920"/>
            <a:ext cx="80661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571176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FF9B-A771-4E4C-B9E3-2128FF8E9B7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EBF639-B653-4FF4-8300-8E29BE1C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2FB12-4C83-481B-9E06-66752184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F2D3DB-1E71-46AF-84A6-BD35116B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2F3B76-223B-4BBF-8177-D32F11D0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BB5BB1-765F-4B8C-803F-31040184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876AA8-22E5-452A-9EB6-C724C369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F68B66-BED7-437F-8ECA-0805033F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9C5D32-FF60-4FF6-975B-BB5B35FB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AEBFF3-75E5-4367-9903-EAD9E88F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AE4A31-37BD-459B-8033-7BC94286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2B9D59-4FAE-452C-8CE6-1B20A133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F5F88C-687E-4469-86BC-08D3FBF0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9584C1-2B63-447E-9315-D1476FE8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505F42-D5C7-4D31-8FD5-6DC45F68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8FBA76-0C46-489A-9C63-81145588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7F1614-C255-43F0-8825-5422AD7F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3371B3-A3B7-4596-A33E-2FD66039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C1E125-EE2D-4E5E-A407-83ECF8EF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C906B3-42E5-497C-8F35-D87092FB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48D92E-0217-4CD0-9931-5D95AFFF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E4AD64-0003-4A52-B9A7-97F0BCAC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66366-538C-450C-A7C7-D65F1979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71413-B161-4B1C-B9EE-D53B3B26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C1B2D-AEF7-4898-89C9-0897CF39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161B9-0F35-4DAB-A9D3-2029AD7E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4C442-5BC7-42E5-AAD4-6FD62E45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87E46-97FA-4E97-BB8E-3F82B0CA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F20F2-202B-422A-A845-C8EF0E30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5A9AD-7A5C-4969-876D-CBB74419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9DF21-EF8E-4CE1-850C-4FB17FD7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50987-A229-474E-B9B4-F8CCDB20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9BCF0-B4F1-4C8B-8153-CC47E579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24A27-7B6F-4F80-B889-2802D8F1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2B729-2AAF-48F1-8DEB-DB872B23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64357-01A7-4AA7-9358-D1C8A681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852B3-82F4-4CB1-8D59-BB0F7F30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2C271-3D81-49D2-B5B5-C4DD27B0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B953F-7760-4102-9580-B3DF3CE9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96209-E6C4-4DE6-92EA-97F2FDA0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58484-DD22-4F6F-A544-88075003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AE7A1-289A-4CB1-B6AC-B3DBD6B0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D1964-655B-4D1A-9047-D2C968BC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02896-BF61-4FA2-95E3-DD95D43C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C9487-2595-4E87-81A7-FF08FB7C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4834E-3FD4-42E5-A89B-1D09D3BD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6998D-C789-48BE-8D9F-BB3AEF4F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004EB-5488-4F9B-8E55-7B394E3A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049C9-5798-4F41-9CDB-D0FED40A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92F506-FB04-460B-98F4-C7F568E4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C5A9FF-8036-42D8-BE7B-DC14A322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5C78B-A12F-4BA4-82AD-99B4EF2F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E7CE9-2187-4560-A115-28926721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115652-1011-45B5-A2B0-55ED20CD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CEF91-AFFA-4AA5-A00F-70DD2D85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0F43D-42FA-46D0-8E93-8D3BCDAC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F24D1-8953-4F42-BD5F-70EFFCD9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1223A-3105-49A3-B473-8E2DD003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AAAD7-E038-4D37-93E6-B96ACDCF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35F43-CCA6-4203-B428-47815799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3AE3D-E3F1-44F1-B7E2-920A5A7F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EF369-C853-493B-A7C2-24038B59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3AE4F-9375-4CF7-ABE4-BA192101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7597C-F7AA-4C01-ACA7-746E46EE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9A5A8-49B8-4034-A468-811B77FD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2232D-39BC-4E5F-BF7E-0777803C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C7D26-A166-4377-A179-F4139888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71CFC-1FB4-4E72-ADF6-B87D524E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ED82B-D99D-4895-910A-D51BADE8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6FBF0-5FBD-4B6A-8A2B-0145C986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95C309-9446-435A-9C02-4FB1F97D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4CFBA-4D32-439A-ABF1-5BD72AF5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0F3D95-AF42-42B1-9B38-08B2D280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05D44-E5F8-44A0-84EE-FA9A7C66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2B24F-6907-4B69-8318-DD266E6D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F932B-3F41-4B62-B5BD-AA1EB364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648D2-1571-4951-B216-473EF2E7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55177-611C-4B4B-8AC1-5F665958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53CB5-759E-414C-AB5C-F97142E8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2E5C9-1CBA-4E32-94AD-3153187F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DCA7F-DC0A-4316-BE9F-DB7BB787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81340-75E2-47DE-AA8E-9D3BBFEE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5F15F7-EC49-4EB0-96D7-FC3D9157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618D9-C35A-44DC-8169-105DB5A5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65B18-BC10-4015-ADCB-B5916123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5F773-F85A-4F8C-BC67-429CE0D6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7BEF2-A0FB-465D-B15F-21D1BFF9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065F9-1392-46A7-938E-F720857B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3F9292-ACE4-46F7-AA09-458553A8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214FC-E08E-4504-9BA6-503EAFFA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7C441F-9AB0-4411-8912-B8B054DF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11311-C31B-4C4B-814D-B087CD17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93A32-4ED6-481F-8BBC-2655B280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EBF63-2A73-40ED-8CAE-E5A7D915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279E7B-3054-42D7-8526-91BFF92A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74FB6D-79A1-4A24-A96E-E011E213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5BF28C-3AD4-49D0-8A4B-410C6BC6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dt" idx="2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ftr" idx="2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8D5B-2FE9-4853-814E-87AB8C47A41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0D9B-0B39-40B1-89D4-C5FD0E192229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B799-1EAE-433E-9353-1626EF8D57D6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dt" idx="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94F3-31D2-4067-BD9C-E2FC8DFCA2B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1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9941-67C3-4587-9893-A6C5B2FB994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dt" idx="1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A3DE-6C16-4718-9F68-51E371278CD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dt" idx="1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1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A9B0-5C33-4917-8618-7ECBFC2C0A03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dt" idx="2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3BCC-2393-4224-AE85-DB647E3C23E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Информационная система</a:t>
            </a:r>
            <a:br>
              <a:rPr sz="2800"/>
            </a:b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«Электронное образование в Р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79280" y="1347480"/>
            <a:ext cx="896472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Структура сайта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тсутствие информации о статусе </a:t>
            </a:r>
            <a:br>
              <a:rPr sz="3600"/>
            </a:b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в перечне шк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4" descr=""/>
          <p:cNvPicPr/>
          <p:nvPr/>
        </p:nvPicPr>
        <p:blipFill>
          <a:blip r:embed="rId1"/>
          <a:stretch/>
        </p:blipFill>
        <p:spPr>
          <a:xfrm>
            <a:off x="480960" y="914400"/>
            <a:ext cx="8183520" cy="3314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АДМИНИСТРИРОВАНИЕ САЙ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96840" y="1662120"/>
            <a:ext cx="8951760" cy="1819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О размещении информации </a:t>
            </a:r>
            <a:br>
              <a:rPr sz="4000"/>
            </a:b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на официальных сайтах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07840"/>
            <a:ext cx="822960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 МОиН Р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13.11.2012 №13723/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ании Правил размещения в сети Интернет и обновления информации об ОУ, утвержденных постановлением Правительства РФ  от 18 апреля 2012 года №34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Информация об учредите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1.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ервый абзац на странице  О школ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именование или фамилия, имя, отчество учредителя образовательного учреждения, его место нахождения, график работы, справочный телефон, адрес сайта в сети интернет, адрес электронной поч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2. Подвершина вершины О школе (гимназии, лице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дирек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График работы руководителя образовательного учреждения, справочный телефон, адрес электронной поч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едения об уровне образован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квалификации педагогических работни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Содержимое 10" descr="Анкета педагога.png"/>
          <p:cNvPicPr/>
          <p:nvPr/>
        </p:nvPicPr>
        <p:blipFill>
          <a:blip r:embed="rId1"/>
          <a:stretch/>
        </p:blipFill>
        <p:spPr>
          <a:xfrm>
            <a:off x="3780000" y="1635120"/>
            <a:ext cx="4559040" cy="86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7" name="Содержимое 9" descr="Анкета пед1.png"/>
          <p:cNvPicPr/>
          <p:nvPr/>
        </p:nvPicPr>
        <p:blipFill>
          <a:blip r:embed="rId2"/>
          <a:stretch/>
        </p:blipFill>
        <p:spPr>
          <a:xfrm>
            <a:off x="611280" y="1419120"/>
            <a:ext cx="2892240" cy="339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8" name="Рисунок 11" descr="Анкета пед2.png"/>
          <p:cNvPicPr/>
          <p:nvPr/>
        </p:nvPicPr>
        <p:blipFill>
          <a:blip r:embed="rId3"/>
          <a:stretch/>
        </p:blipFill>
        <p:spPr>
          <a:xfrm>
            <a:off x="5003640" y="2571840"/>
            <a:ext cx="3024360" cy="229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Особый статус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tretch/>
        </p:blipFill>
        <p:spPr>
          <a:xfrm>
            <a:off x="457200" y="843120"/>
            <a:ext cx="8229600" cy="3751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229600" cy="4183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АДМИНИСТРИРОВАНИЕ САЙ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000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МИС РТ-Низамиев Ильдар Мунавирович</dc:creator>
  <dc:description/>
  <dc:language>en-US</dc:language>
  <cp:lastModifiedBy>Тамара</cp:lastModifiedBy>
  <dcterms:modified xsi:type="dcterms:W3CDTF">2013-03-22T06:03:12Z</dcterms:modified>
  <cp:revision>630</cp:revision>
  <dc:subject/>
  <dc:title>Презентация PowerPoint</dc:title>
</cp:coreProperties>
</file>